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CDA-24D7-4E20-A4BD-7BE7C236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51D-0C5B-4743-A042-016F217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30-ECB2-4F36-9121-8179F5B7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4E8-6E2A-4518-A6C2-B160E33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72D-C9A3-40D1-995C-94FAF7C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B47-17A4-417D-8A1D-61FA2B7D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FB4-6EE8-4170-9F96-26CD671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55F-6B15-4D2E-9D82-3DF3B3E1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027-77B8-4295-B3E2-F9296B42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AB8-5C4B-475E-9CA7-48CB5B4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714-5FDB-4D0F-88CF-AC16F9B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091-3542-4E6B-842C-8C7FB8B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F38-A720-42B7-B2E1-49868734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sergic acid diethylam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emi Haar and Justin Mo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80008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ergic acid diethylamide, an hallucinogen. LSD is an abbreviation of the German term Lysergsaure-Diathylamid for lysergic acid diethylam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is a hallucinogenic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/Oth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’s it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D is licked or swallowed off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sules and liquids are also sw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D users drew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701064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7575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it do to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LSD your senses of space, distance, and time become al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y they hear colors or see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are unpredictable th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perience dilated pupils, increased heart rate, blood pressure, muscle twitches, shaking, sweating, sleeplessness, and loss of appet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324000"/>
            <a:ext cx="13716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.R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’re on an “acid trip”, you can’t get off till the drug’s done with you – in about twelv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can cause “bad trips”, users experience panic, confusion, sadness, and scary images, which later cause flashbacks of “bad trip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’s mad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is a colorless, odorless drug with a bitter ta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ade from ergot, a brown, toxic (poisonous) mold that grows on rye, and other g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formula for LSD is C20H25N3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17:17Z</dcterms:created>
  <dc:creator>SETUP</dc:creator>
  <dc:description/>
  <dc:language>en-US</dc:language>
  <cp:lastModifiedBy>FCPS</cp:lastModifiedBy>
  <dcterms:modified xsi:type="dcterms:W3CDTF">2010-03-24T17:40:03Z</dcterms:modified>
  <cp:revision>4</cp:revision>
  <dc:subject/>
  <dc:title>LSD lysergic acid diethylamide</dc:title>
</cp:coreProperties>
</file>